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4158-B7AF-4CFA-B4D5-3D068F96D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0D36-1A47-494A-A6AE-9DB022AB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0D7131-19B9-4025-B6CD-E6B0B47B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3B7F16-A057-4ED8-8447-C5A37586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CC860E-B580-4C80-8489-50309615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BBDE2-368F-4E26-9FA5-49AA324E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F02B2-2B47-4B9E-BB3C-0CD6DF43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61637E-9EFF-4AAF-A152-D14D5480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0096B3-4A10-40F2-95B3-47DE76E9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F0CED-8DD3-4B02-BDD2-DA191E109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3D4CB7-AD46-4014-BA5F-8D5AEC80A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807969-F31E-4E70-9BCA-C83E9CD48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DB4E-4EF2-4B10-8DDA-FB8F2EA7A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39498F-E1C6-438C-96D0-8AB9882B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E32C12-E0FD-4A26-A5BC-B0DB65B8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1B7E56-10D5-4B79-8B6E-5AC1D646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96622F-2435-4092-9FE1-02185AB7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F5C75F-0991-4D35-B9B4-99D4DD02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1D996F-7511-4496-B92A-1C875ED1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0BB4C0-84E1-4C23-B2E1-420309B9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30331B-3538-49B0-822D-3EF965C3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31870C-8990-471C-B039-73E3D85F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E3C2BB-9E6F-4B97-8BE8-A75E65E61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4C69-FE95-4B0A-B305-1B71D0ED9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C5BF8B-4A27-4D8C-943E-ABED9B1CA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F58B4F-F819-4CB2-9A96-28EA539D9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7CADAA-622F-4F6A-A2A3-913EAC43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BC1DA6-1536-461C-BA43-067D43AB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3DCC6E-B456-46C8-A688-D9FF9D39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D5AC0-B1BE-40A5-A736-B1A1014B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74143-9252-41EB-9480-0386AB4B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6CD07-7562-497B-B32D-53B6AEAF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09AD0-BD13-4889-A51E-2BD011B7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8BE34-E095-47FE-A4DF-1CC7F890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4C9C-33C7-4402-A801-7FE5B521A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3F3BCB-0621-4465-B7F8-3D3B4EC8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FEB07-BF6B-46FE-B155-B89D73480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0A077F-F457-42EF-A75D-27DE5C088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3F566D-CE3D-4E2C-BC20-59603D136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EEB46E-4D80-4279-A0CF-C9984D4D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1774D9-547F-4E48-A7B1-AE39C154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FAA571-3F19-488C-ACDF-2F67EAF0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597573-BA01-433B-B812-756BD26D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9B39B0-EA28-47B5-9153-4035F4AB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47A62B-BDF2-407C-8738-A58FCD3E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E589-E744-4081-ADE7-66EE263D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21B9CD-51F9-445B-9C2E-B2B543A8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410E73-520A-45E9-A955-1FC979F2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01726D-6A41-406B-ABF1-E297F5C0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16C3C5-6A7C-4D48-93F6-0FED465A9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B80742-FA1D-4A5C-B112-57A4D5FC0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4262EB-CC1B-43AC-A535-A2CBE5D1E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CE34DF-D998-4097-B7E8-4FA280DA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391DC1-CA54-4A55-92E1-B8EA2F38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2B3C43-DFAD-4381-9623-C21A72A7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7FB57B-909A-4E16-B03E-A2D87B2B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1508-0AAA-464D-8BA0-FD2C9402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664AAF-770C-4485-83BC-8BC4E829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48E93F-C7BB-4AC3-B6AB-8F203339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82CE72-03D6-4F71-A820-9ED78E61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58DA3E-9163-40C8-AF75-1142C0FE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4F6FF8-C33B-457B-AA46-3AAC48A5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F913C0-22A5-4F18-B207-14185BA7D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954B6E-8729-41F2-9387-F602955E9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548C91-3F25-4A77-831D-D2AED7F39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EBCCAD-5E49-45C2-B1B3-ADB570D8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38E5ED-1980-44C6-A0BC-1BDC34F7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64EF7-2A59-46CA-8E51-5281E12C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90A627-1185-4B8D-BF5D-8D6B28CB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5E8166-B26B-46C7-B106-D9AEEE34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8A5AE4-7365-4591-B991-E791F88B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D9ECEC-E73C-4E47-9DBB-B866F134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836833-15F0-4D58-90E8-634FBFD9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CD0AEB-6632-445C-AB65-22EE5F6C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1F241C-CFE1-40F8-93CB-00BAA959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71C402-F60F-4867-B74F-E511BE164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1E9F66-7742-4851-A07C-7A6D13929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D28C82-4ED0-4E5A-A44D-57BBDC07D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3075-075E-482C-BA6C-9172E7B2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CD7782-AD6D-4230-898A-FDBD14BF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DC4A47-CE2E-40BC-8D0C-36407168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8DBB42-B82B-4E72-96CC-D69CF11C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0523E4-929B-465F-B92F-DBC8FF65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615067-D4FD-4599-B20B-1E6C0534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A50280-9D8C-4D2C-B11B-F26B41EC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B137B8-B323-4B41-9916-E50D98E6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DBD178-E657-4183-86AB-393279AF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33A6E8-CDBF-40B8-86E0-877617C1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1BC124-D99F-4BF4-A931-D4C27F857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063E6-79E2-4B69-8329-0FB74C1A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AF017A-E14C-43EB-9D91-7B7E06BA2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E8A26C-7DE3-4975-B365-BFC496D8A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E9A2B7-9A1B-4C5D-B89B-FF9AB72A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CE8888-BAA1-4451-92A7-5C1EDAC1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5333B2-E8E9-4FCB-A138-6258E97E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00AB88-9494-4611-B1FC-B99B253F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5B29E9-061C-453A-9FB9-AB628641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7DEE11-8A45-4375-8992-36640CF4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0F1B27-F0C2-44C5-B006-E4B81C46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329683-68AF-4641-B831-4CD49B62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43852-E5CA-458E-8029-0F2BE970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1E85B2-C18E-4927-90E2-5C3492F9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B78973-49AD-4C5F-93FD-A47265ABC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E39E91-2756-4AEF-B7DE-59BF9FC0E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7C3E8F-A8F8-47E4-8743-FBC57305E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89D130-9B93-4564-ABC5-212ACFDC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4DEC68-2420-4740-A248-C132CD6C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E33158-E004-45E1-A79E-A71259B8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A01060-2186-4A76-8837-7D942626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90632D-DF6C-4C1D-9752-3FE7AB0F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4693AF-4F93-45F0-AE0B-96788B45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4E44-18A0-4C81-8BFA-8173D995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017B6-3C31-4C01-872A-D5DCA76A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1E85E6-30F7-4C0C-AB97-273FAC11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1921E0-6D85-4DA2-BD50-F416F95B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6EA1A0-D642-4811-A8E9-82243C11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7D4828-2EF9-4DE7-868F-C0E534E7C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B7375D-12B5-4DAD-82DA-CC071D0D9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079F68-8D15-4D8B-976C-02BC88AA7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1B32B3-D72C-4F30-A7DA-CBD48C29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ECB9AC-8BEB-4373-AD75-F3732C92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14034D-C6B6-4E77-9B7F-11511C1A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B68DDF-CBAB-41D4-9ED5-D8CE1E92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547C-0A8B-416D-9FFD-4F6989D5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ED6681-A7B8-4D94-BC3E-20FC51BD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669441-13AC-4093-87EA-A8C7D283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DB1DE4-58F6-41EC-90AA-124EA54E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687025-4D8D-4F9C-9067-B614B5A7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0BA9C3-67D0-4DC9-9580-3295E054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5C4096-B733-4FD2-99DC-6230E4AC3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0524B6-79D1-4821-B368-3034B835F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A9824C-A45E-4791-89FD-63F613654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9C20D5-CD1D-4884-87D4-1799B486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D840E2-63F5-47F6-9C5C-95357317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F943-CB5D-43C4-9781-822BE18E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6B4062-94F1-4B1E-8F35-0031581E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993560-60D4-4A36-89B8-F0A13065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8E9A00-CD14-4386-9BB2-80709112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B4F404-50A3-4073-A10D-5C298E9C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C992AD-6691-4847-BBB3-D046B08B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0C42F3-6A26-4487-A972-F81BFEA2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39A0A4-2BE9-4947-BEE5-086A07D6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3303D0-4FDE-431B-8C7D-6297A2738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813206-6E14-434A-ABED-AAF5FAF14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87AF43-7824-4E4D-8EB9-AE72BCE83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E0DD-30C7-4009-854B-F851286ED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400444-83AF-4689-99A9-473FD38A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DBB195-5AEA-442F-9F47-A273BB95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0D1387-6A1B-45F0-83C2-BE73F8ED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D1825F-0312-493F-99B9-C15B4AA8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6F2371-FA82-4EA1-8A1B-40E3A560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D0896D-7023-451E-942F-B11436A5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307699-70DF-442F-A9C7-7BA83522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8BA62B-3624-41D8-9E65-6D6EB736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350482-0854-4A22-8E25-6F2E8CC4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52FBEB-D5A8-44BB-8FC5-990AB3757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73446-F2DE-4467-B966-C5112EA59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5D6078-A1D6-45D3-841D-841773CA8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DD74F1-58F2-4910-A32A-2FB364DA0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C68732-1840-43B1-B2A7-F395A542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F3C682-3FFF-4921-AAA7-BB4C1244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FA5550-030A-4878-8483-385DA8D0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3D3D30-1508-4D5C-97E5-497D669B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864165-A3CF-4FD9-936C-BEAC8032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480CD3-AED6-4837-9176-E3DF24CF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C9B10C-684E-41E4-9587-730D9FB8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5CF676-7215-4DFD-A154-3F4D20B4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2597B-940B-4C55-BC7C-72394532C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1F2EE9-8502-4CC5-AB59-ED10B3DD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27E55F-8E18-40F4-9CCA-5D2CCFD17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265600-E4A5-4664-9206-FE7C3E5AD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7EDFE-6CEF-496C-B454-2B0B01E8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9CA49-4911-40CF-8890-FCC157D6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F25B7-B954-4BC4-B26E-BDA9E849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1BF8E-136D-4785-9BE6-C488A6D1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7F28-72B9-461E-8AE3-84F02020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7098D-2C3F-4801-8338-09E196DD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AEC49-4A83-41AD-8E68-CF3F56AB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01059-CBB7-4DAC-845B-747CF710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542C5-242F-44B3-8352-03029040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6E69C-D0D2-4BFA-A073-B026B886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7DEDC-5EE2-4DD0-B977-6B70B1372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BCAF3-10EA-43F9-9B4C-08E603F9F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4403C-4740-47B8-96EF-7F7D08508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C909C-9FD1-45DA-AE63-81ECFC6C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8A552-BB15-4CF4-A526-98ECED5B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307B-07CC-4BC1-978F-6550A086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3C420-6079-4B82-B042-DA99BEC8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7E72C-E7A0-4C47-B10C-0EC3B9B2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E40DC-A26F-4286-B2C7-BE974187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DAB6F-1204-42CE-B3A6-48B2922F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B5396-8C28-4DCE-9C96-D2DE1AA2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315BB-A9AF-479B-B331-DC12D18E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C4635-2D5C-4465-8BF4-733F0CEE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12F23-CF47-4140-81FD-C595BED28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F2CED-87F6-4D29-8AE3-AC392F2F3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CC6CB-0150-4309-9310-0B64565DC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400D-6895-4617-9620-7E0AE4C1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62CD9-DBA7-4902-A2DC-63A2A1EB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B6D51-B9A7-4FF5-9D4B-E467E7C3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EEE2E-31DC-4182-A17E-B8700EDF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D49B1-01E7-4D95-A285-7E62D527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39C60-768E-442E-B082-E08D1C1B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D058A-53DB-4B3C-B8DA-E821218E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914F2-0775-4E6E-96EF-6DD239B9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2B528-C9FE-4AE9-B841-7EAB4259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FE1D9-C434-4FEC-A2EF-0195A174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5AF30-4ED5-4BED-9CA1-DAD95D3E3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54A3-72FE-49AF-8196-7613B92D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66507-04A1-4A18-88CA-8DCA409DB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61857-D800-4351-9B59-25D65F195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1A7D8-6D05-419F-B18F-0DE2ED73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48237-9572-4303-891B-2E0EC728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973C1-55B8-4506-AD26-2341047D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15748-1EC7-4B37-9040-6C1E51B6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181DF-FB3D-4589-BEDB-639115B2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0AF33-AC70-4BCF-8A28-D4D24C8A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CF9C3-F445-42FA-A67F-C7871218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BC302-038E-4DE5-8704-63BD6893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D47F-0595-4D5C-8982-38D4CD12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D691C-4865-4E7D-8892-C3DAC358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A2C88-A7AF-4AED-B2D1-D5E99269C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7D213-6E2D-4C20-96AF-40B11B862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B1DEA-514D-4A9D-B8E4-569C31DA1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1C7E3-A4E6-4515-8CC5-BF47737B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6581C-87D5-4E5F-BE07-BB202BE6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2BE6E-A2D5-4629-97B2-D24EEEF6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DF637-9BD6-4F91-B3CB-41F4CA7C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14EFE-F8E6-4F1D-B9F9-CA30A9F2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862D4-6C07-474E-8EF2-82D18247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ADD7-DE8B-46C6-8AC4-E3FAC2D3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58BC9-B4BE-4485-B4E1-63A4A61F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88AEA-2024-4842-AB19-03BB52B0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03AE8-C027-41AB-8511-CD1FE112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1FB80-3E85-4A51-A316-226D2B705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F1E8F-4B09-4C2C-9B8C-6BE54060F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0DC25-3BF4-4CA1-87B8-EA88DDB05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A55C6-C3D9-44B7-953C-416138FF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AB28A-1684-4C81-B202-5C9BCE0F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09440-217A-4C96-9DAD-2CCA107F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5C3B8-3F67-4669-B01D-BCB72835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A1EE-967A-41B7-987A-5D60574E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45857-28DA-4506-9E6F-BFFFE2AF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2C2B7-6B39-447E-B6BC-D4DC95D6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BFC29-5D0F-4501-9431-5D537C88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ECB46-A11C-4BA8-9520-7B06A12C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714F3-F0B2-4569-8BA8-A919EA82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ED171-1769-4EC1-B181-C6E3CD0CD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87C29-9CB5-4A80-BC70-D64133EDA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1B5D27-3B5D-4CCB-8FCB-92F507CEC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6233FF-8F7F-4A97-9F60-CF887E43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EF4BC9-EB47-4A12-B89B-F64FC8A5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07F0-80EB-4C52-B250-CFFC71FD8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9057-21FB-47F7-A7BC-88D5E3B04E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253C-2B77-4382-B4B9-3DB8C4CC99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6C7A-73AC-41F9-8D3C-B236B10383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1A89-BC16-44F7-872A-FD7F20BC3F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C6CA-CDF4-44D8-AF0F-3DF63A95A2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2C32-1793-4EAE-993B-DF0A3A9957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9D04-DE12-442B-B0B4-419F69150E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4F61-9DA9-40E4-B1FB-FEABBDE37C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08BD-FB31-44AD-8AD0-7B933351A4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719A-4712-4A56-9490-6FC71BEFCA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9662-55BA-4C3D-B9F0-E94F66A146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7FDA-9599-4A19-AB44-210BDF2845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0D30-1F55-4750-B625-226F72AF33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2CD1-9F48-47BD-911C-785025B684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B8EE-66EA-4217-9DFE-60907EF649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178F-3692-4365-86D4-38A1C09375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7DD1-2D82-4694-B5D5-3191E51B59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9339-29A9-496A-8096-8653A305E1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8F9F-F4CA-466E-B34B-14A9E7AD4B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718E-0085-4266-BEF8-642A61CB00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8603-E09D-400E-B1A3-F85C2CF706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772B-D70C-443E-BA02-200A456707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354E-F54C-4CD5-B615-EB62AA4512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A3C3-6334-4DF0-8B8C-588EA1C705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FFEED-9E1A-4A9E-929B-EF2E287A45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435C-1FEE-4F2D-A9C9-20E954446B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FAAC-1CD3-42CE-8241-674D086BA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EF1B-15F4-4514-8C51-4AE5E55206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727E-8A71-4E13-929B-1DAFB1F7E7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D24E-700D-46CA-BDFF-0C2CAF3C6F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1AE2-1838-4D6F-B0EC-ED7463BE62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B330-0BF1-41DF-A91B-964DE67646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E8C1-BDD9-4789-89C1-7DDF8D863F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37C5-2AC0-436E-AE21-0CA500154B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09CB-3114-45E1-B548-BA608DC7F8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C5D4-C9EB-4F16-9A34-7456AA9AF2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F0BD-97C9-46B4-B3AA-EE934E8491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6CEA-17AC-4D46-9636-C23E7AEA04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32280-3F7D-447D-B88A-124F54337D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2" descr=""/>
          <p:cNvPicPr/>
          <p:nvPr/>
        </p:nvPicPr>
        <p:blipFill>
          <a:blip r:embed="rId1"/>
          <a:stretch/>
        </p:blipFill>
        <p:spPr>
          <a:xfrm>
            <a:off x="1757520" y="2952720"/>
            <a:ext cx="56289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7867440" cy="2409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920880" y="2379600"/>
            <a:ext cx="287280" cy="2937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3" descr=""/>
          <p:cNvPicPr/>
          <p:nvPr/>
        </p:nvPicPr>
        <p:blipFill>
          <a:blip r:embed="rId3"/>
          <a:stretch/>
        </p:blipFill>
        <p:spPr>
          <a:xfrm>
            <a:off x="920880" y="2708280"/>
            <a:ext cx="287280" cy="2937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3" descr=""/>
          <p:cNvPicPr/>
          <p:nvPr/>
        </p:nvPicPr>
        <p:blipFill>
          <a:blip r:embed="rId4"/>
          <a:stretch/>
        </p:blipFill>
        <p:spPr>
          <a:xfrm>
            <a:off x="950760" y="3011400"/>
            <a:ext cx="287640" cy="2937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3" descr=""/>
          <p:cNvPicPr/>
          <p:nvPr/>
        </p:nvPicPr>
        <p:blipFill>
          <a:blip r:embed="rId5"/>
          <a:stretch/>
        </p:blipFill>
        <p:spPr>
          <a:xfrm>
            <a:off x="971640" y="3289320"/>
            <a:ext cx="287280" cy="2937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3" descr=""/>
          <p:cNvPicPr/>
          <p:nvPr/>
        </p:nvPicPr>
        <p:blipFill>
          <a:blip r:embed="rId6"/>
          <a:stretch/>
        </p:blipFill>
        <p:spPr>
          <a:xfrm>
            <a:off x="900000" y="3639960"/>
            <a:ext cx="28728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5" name="Picture 1" descr=""/>
          <p:cNvPicPr/>
          <p:nvPr/>
        </p:nvPicPr>
        <p:blipFill>
          <a:blip r:embed="rId1"/>
          <a:stretch/>
        </p:blipFill>
        <p:spPr>
          <a:xfrm>
            <a:off x="9360" y="1287360"/>
            <a:ext cx="9125280" cy="473400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3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287280" cy="2937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3" descr=""/>
          <p:cNvPicPr/>
          <p:nvPr/>
        </p:nvPicPr>
        <p:blipFill>
          <a:blip r:embed="rId3"/>
          <a:stretch/>
        </p:blipFill>
        <p:spPr>
          <a:xfrm>
            <a:off x="611280" y="2492280"/>
            <a:ext cx="287280" cy="2937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3" descr=""/>
          <p:cNvPicPr/>
          <p:nvPr/>
        </p:nvPicPr>
        <p:blipFill>
          <a:blip r:embed="rId4"/>
          <a:stretch/>
        </p:blipFill>
        <p:spPr>
          <a:xfrm>
            <a:off x="611280" y="3422520"/>
            <a:ext cx="287280" cy="2937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3" descr=""/>
          <p:cNvPicPr/>
          <p:nvPr/>
        </p:nvPicPr>
        <p:blipFill>
          <a:blip r:embed="rId5"/>
          <a:stretch/>
        </p:blipFill>
        <p:spPr>
          <a:xfrm>
            <a:off x="611280" y="4297320"/>
            <a:ext cx="28728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2" name="Picture 1" descr=""/>
          <p:cNvPicPr/>
          <p:nvPr/>
        </p:nvPicPr>
        <p:blipFill>
          <a:blip r:embed="rId1"/>
          <a:stretch/>
        </p:blipFill>
        <p:spPr>
          <a:xfrm>
            <a:off x="34920" y="1052640"/>
            <a:ext cx="9037800" cy="53020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3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287280" cy="2775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3" descr=""/>
          <p:cNvPicPr/>
          <p:nvPr/>
        </p:nvPicPr>
        <p:blipFill>
          <a:blip r:embed="rId3"/>
          <a:stretch/>
        </p:blipFill>
        <p:spPr>
          <a:xfrm>
            <a:off x="2771640" y="2276640"/>
            <a:ext cx="287640" cy="2775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3" descr=""/>
          <p:cNvPicPr/>
          <p:nvPr/>
        </p:nvPicPr>
        <p:blipFill>
          <a:blip r:embed="rId4"/>
          <a:stretch/>
        </p:blipFill>
        <p:spPr>
          <a:xfrm>
            <a:off x="4356000" y="2287440"/>
            <a:ext cx="287280" cy="2779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3" descr=""/>
          <p:cNvPicPr/>
          <p:nvPr/>
        </p:nvPicPr>
        <p:blipFill>
          <a:blip r:embed="rId5"/>
          <a:stretch/>
        </p:blipFill>
        <p:spPr>
          <a:xfrm>
            <a:off x="6002280" y="2276640"/>
            <a:ext cx="287280" cy="2775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3" descr=""/>
          <p:cNvPicPr/>
          <p:nvPr/>
        </p:nvPicPr>
        <p:blipFill>
          <a:blip r:embed="rId6"/>
          <a:stretch/>
        </p:blipFill>
        <p:spPr>
          <a:xfrm>
            <a:off x="7597800" y="2276640"/>
            <a:ext cx="287280" cy="27756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3" descr=""/>
          <p:cNvPicPr/>
          <p:nvPr/>
        </p:nvPicPr>
        <p:blipFill>
          <a:blip r:embed="rId7"/>
          <a:stretch/>
        </p:blipFill>
        <p:spPr>
          <a:xfrm>
            <a:off x="2987640" y="4365720"/>
            <a:ext cx="287280" cy="2775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3" descr=""/>
          <p:cNvPicPr/>
          <p:nvPr/>
        </p:nvPicPr>
        <p:blipFill>
          <a:blip r:embed="rId8"/>
          <a:stretch/>
        </p:blipFill>
        <p:spPr>
          <a:xfrm>
            <a:off x="5076720" y="4365720"/>
            <a:ext cx="287280" cy="27756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3" descr=""/>
          <p:cNvPicPr/>
          <p:nvPr/>
        </p:nvPicPr>
        <p:blipFill>
          <a:blip r:embed="rId9"/>
          <a:stretch/>
        </p:blipFill>
        <p:spPr>
          <a:xfrm>
            <a:off x="539640" y="4664160"/>
            <a:ext cx="287280" cy="27756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3" descr=""/>
          <p:cNvPicPr/>
          <p:nvPr/>
        </p:nvPicPr>
        <p:blipFill>
          <a:blip r:embed="rId10"/>
          <a:stretch/>
        </p:blipFill>
        <p:spPr>
          <a:xfrm>
            <a:off x="5035680" y="4724280"/>
            <a:ext cx="287280" cy="2174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3" descr=""/>
          <p:cNvPicPr/>
          <p:nvPr/>
        </p:nvPicPr>
        <p:blipFill>
          <a:blip r:embed="rId11"/>
          <a:stretch/>
        </p:blipFill>
        <p:spPr>
          <a:xfrm>
            <a:off x="7380360" y="4724280"/>
            <a:ext cx="287280" cy="21744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3" descr=""/>
          <p:cNvPicPr/>
          <p:nvPr/>
        </p:nvPicPr>
        <p:blipFill>
          <a:blip r:embed="rId12"/>
          <a:stretch/>
        </p:blipFill>
        <p:spPr>
          <a:xfrm>
            <a:off x="3924360" y="5013360"/>
            <a:ext cx="287280" cy="21600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3" descr=""/>
          <p:cNvPicPr/>
          <p:nvPr/>
        </p:nvPicPr>
        <p:blipFill>
          <a:blip r:embed="rId13"/>
          <a:stretch/>
        </p:blipFill>
        <p:spPr>
          <a:xfrm>
            <a:off x="7596360" y="5013360"/>
            <a:ext cx="28728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1:48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